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AB38-9A34-41AA-BF3D-87819BF9C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4225-A1FD-4E76-976E-633D3DECC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7049-5FA5-42E7-9E35-A85E53087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6B4B-D3BF-4E48-89C1-688C3C1BC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26427-C043-415E-9B3A-303515DD3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34596-3C11-4BB3-9824-13618C5EE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7D682-6681-4928-A289-8E51BBFAC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994D1-B9E7-4871-A0E2-49910F60E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ADF59-600B-4784-8286-71FECE3DF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4056B-BDFB-4177-9236-6861FBBC4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010C2-90F2-403E-9D4F-13B25D65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45CB-AF16-4C38-AA4F-9AC2DEBFD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610A8-B663-4E9B-9101-F664819F3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4F4BF-AEA3-438D-AA96-A97D70B6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E4566-70C7-4BAC-BDAA-8ACFB5ABF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C359F-4D08-4D6B-A4B7-AA1C4EBD6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6207E-7A8E-4133-AB34-45644954F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36F2-5C89-49AF-A90A-2F657E48D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E207-78A4-4D69-8F49-45C8EEAD9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FCB2-D2BD-4EB2-B58A-BAFD522E3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A239-A52D-4634-8DFB-E20349362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5241-2348-4B73-9086-62598037B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9596-C9F6-4A9C-BBF5-4FF6D463E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D239-6462-4CD3-92C3-8AF1083C5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C8F9F-D2CC-433E-82A2-8050C57CEE3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33452-1E84-4534-A760-612AA7C5F1C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4920" y="1699920"/>
            <a:ext cx="8064360" cy="1469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336666"/>
                </a:solidFill>
                <a:latin typeface="Arial Black"/>
              </a:rPr>
              <a:t>ОЦЕНКА ЗАВИСИМОСТИ СПРОСА НА ПЕРЕВОЗКИ ОТ УРОВНЯ КАЧЕСТВА ТРАНСПОРТНОГО ОБСЛУЖИВАНИЯ ГРУЗОВЛАДЕЛЬЦЕВ</a:t>
            </a:r>
            <a:r>
              <a:rPr b="0" i="1" lang="ru-RU" sz="37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37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444680" y="3430440"/>
            <a:ext cx="6222960" cy="157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колов Юрий Игоревич, д.э.н., профессор кафедры «Экономика и управление на транспорте» Московского государственного университета путей сообщения (МИИ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miit"/>
          <p:cNvPicPr/>
          <p:nvPr/>
        </p:nvPicPr>
        <p:blipFill>
          <a:blip r:embed="rId1"/>
          <a:stretch/>
        </p:blipFill>
        <p:spPr>
          <a:xfrm>
            <a:off x="7099200" y="5892840"/>
            <a:ext cx="2044800" cy="9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Помесячная динамика Индекса качества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miit"/>
          <p:cNvPicPr/>
          <p:nvPr/>
        </p:nvPicPr>
        <p:blipFill>
          <a:blip r:embed="rId1"/>
          <a:stretch/>
        </p:blipFill>
        <p:spPr>
          <a:xfrm>
            <a:off x="7099200" y="5892840"/>
            <a:ext cx="2044800" cy="965160"/>
          </a:xfrm>
          <a:prstGeom prst="rect">
            <a:avLst/>
          </a:prstGeom>
          <a:ln w="0">
            <a:noFill/>
          </a:ln>
        </p:spPr>
      </p:pic>
      <p:pic>
        <p:nvPicPr>
          <p:cNvPr id="94" name="Диаграмма 6" descr=""/>
          <p:cNvPicPr/>
          <p:nvPr/>
        </p:nvPicPr>
        <p:blipFill>
          <a:blip r:embed="rId2"/>
          <a:stretch/>
        </p:blipFill>
        <p:spPr>
          <a:xfrm>
            <a:off x="785880" y="1928880"/>
            <a:ext cx="7715160" cy="328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Динамика удовлетворенности клиентов уровнем ставок за перевозку грузов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Диаграмма 5" descr=""/>
          <p:cNvPicPr/>
          <p:nvPr/>
        </p:nvPicPr>
        <p:blipFill>
          <a:blip r:embed="rId1"/>
          <a:stretch/>
        </p:blipFill>
        <p:spPr>
          <a:xfrm>
            <a:off x="714240" y="1857240"/>
            <a:ext cx="7786800" cy="4071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miit"/>
          <p:cNvPicPr/>
          <p:nvPr/>
        </p:nvPicPr>
        <p:blipFill>
          <a:blip r:embed="rId2"/>
          <a:stretch/>
        </p:blipFill>
        <p:spPr>
          <a:xfrm>
            <a:off x="7099200" y="5892840"/>
            <a:ext cx="2044800" cy="9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6080" cy="82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 Black"/>
              </a:rPr>
              <a:t>Общие сведения о методике расчета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61760" y="1905120"/>
            <a:ext cx="44528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дальнейшего анализа из всех показателей, входящих в Индекс, нами были выделены пять важнейших, оказывающих, на наш взгляд, решающее значение на выбор клиентом транспортной компани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соблюдение сроков доставк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сохранность груз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перевозка «от двери до двери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полнота удовлетворения спрос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подача вагонов по графи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плексный показател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чества рассчитан по формул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5"/>
              <p:cNvSpPr txBox="1"/>
              <p:nvPr/>
            </p:nvSpPr>
            <p:spPr>
              <a:xfrm>
                <a:off x="2143080" y="5572080"/>
                <a:ext cx="102888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К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Б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К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∗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02" name="TextBox 9" descr=""/>
          <p:cNvPicPr/>
          <p:nvPr/>
        </p:nvPicPr>
        <p:blipFill>
          <a:blip r:embed="rId1"/>
          <a:stretch/>
        </p:blipFill>
        <p:spPr>
          <a:xfrm>
            <a:off x="5443560" y="2182680"/>
            <a:ext cx="3279600" cy="40100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miit"/>
          <p:cNvPicPr/>
          <p:nvPr/>
        </p:nvPicPr>
        <p:blipFill>
          <a:blip r:embed="rId2"/>
          <a:stretch/>
        </p:blipFill>
        <p:spPr>
          <a:xfrm>
            <a:off x="7099200" y="5892840"/>
            <a:ext cx="2044800" cy="9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Данные для расчета эластичности спроса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105" name="Object 3"/>
          <p:cNvGraphicFramePr/>
          <p:nvPr/>
        </p:nvGraphicFramePr>
        <p:xfrm>
          <a:off x="909720" y="1905120"/>
          <a:ext cx="740088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9720" y="1905120"/>
                    <a:ext cx="740088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7" name="Picture 6" descr="miit"/>
          <p:cNvPicPr/>
          <p:nvPr/>
        </p:nvPicPr>
        <p:blipFill>
          <a:blip r:embed="rId3"/>
          <a:stretch/>
        </p:blipFill>
        <p:spPr>
          <a:xfrm>
            <a:off x="7099200" y="5892840"/>
            <a:ext cx="2044800" cy="9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66"/>
                </a:solidFill>
                <a:latin typeface="Arial Black"/>
              </a:rPr>
              <a:t>Зависимость спроса на перевозки от уровня качества транспортного обслуживания</a:t>
            </a: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(</a:t>
            </a:r>
            <a:r>
              <a:rPr b="0" lang="ru-RU" sz="2400" spc="-1" strike="noStrike">
                <a:solidFill>
                  <a:srgbClr val="336666"/>
                </a:solidFill>
                <a:latin typeface="Arial Black"/>
              </a:rPr>
              <a:t>К)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09" name="Рисунок 213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4032360" cy="40273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5"/>
          <p:cNvSpPr/>
          <p:nvPr/>
        </p:nvSpPr>
        <p:spPr>
          <a:xfrm>
            <a:off x="5148360" y="3292560"/>
            <a:ext cx="31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авнение зависим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+62,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miit"/>
          <p:cNvPicPr/>
          <p:nvPr/>
        </p:nvPicPr>
        <p:blipFill>
          <a:blip r:embed="rId2"/>
          <a:stretch/>
        </p:blipFill>
        <p:spPr>
          <a:xfrm>
            <a:off x="7099200" y="5892840"/>
            <a:ext cx="2044800" cy="9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 Black"/>
              </a:rPr>
              <a:t>Зависимость спроса на перевозки от степени удовлетворенности клиентов уровнем тарифов </a:t>
            </a:r>
            <a:r>
              <a:rPr b="0" lang="ru-RU" sz="2000" spc="-1" strike="noStrike">
                <a:solidFill>
                  <a:srgbClr val="336666"/>
                </a:solidFill>
                <a:latin typeface="Arial Black"/>
              </a:rPr>
              <a:t>(</a:t>
            </a:r>
            <a:r>
              <a:rPr b="0" lang="en-US" sz="2000" spc="-1" strike="noStrike">
                <a:solidFill>
                  <a:srgbClr val="336666"/>
                </a:solidFill>
                <a:latin typeface="Arial Black"/>
              </a:rPr>
              <a:t>P)</a:t>
            </a:r>
            <a:endParaRPr b="0" lang="en-US" sz="20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13" name="Рисунок 214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4028760" cy="40384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5148360" y="3292560"/>
            <a:ext cx="31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авнение зависим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Q=0,53Р+97,2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miit"/>
          <p:cNvPicPr/>
          <p:nvPr/>
        </p:nvPicPr>
        <p:blipFill>
          <a:blip r:embed="rId2"/>
          <a:stretch/>
        </p:blipFill>
        <p:spPr>
          <a:xfrm>
            <a:off x="7099200" y="5892840"/>
            <a:ext cx="2044800" cy="9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66"/>
                </a:solidFill>
                <a:latin typeface="Arial Black"/>
              </a:rPr>
              <a:t>Сфера применения результатов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анспортные компании (прогнозирование реакции рынка, оценка эффективности проводимых мероприятий, выбор стратегии роста клиентоориентированност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ы государственного регулирования (индикатор развития конкуренции на рынке грузовых перевозо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miit"/>
          <p:cNvPicPr/>
          <p:nvPr/>
        </p:nvPicPr>
        <p:blipFill>
          <a:blip r:embed="rId1"/>
          <a:stretch/>
        </p:blipFill>
        <p:spPr>
          <a:xfrm>
            <a:off x="7099200" y="5892840"/>
            <a:ext cx="2044800" cy="9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miit"/>
          <p:cNvPicPr/>
          <p:nvPr/>
        </p:nvPicPr>
        <p:blipFill>
          <a:blip r:embed="rId1"/>
          <a:stretch/>
        </p:blipFill>
        <p:spPr>
          <a:xfrm>
            <a:off x="7099200" y="5892840"/>
            <a:ext cx="2044800" cy="965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8T07:03:46Z</dcterms:created>
  <dc:creator>Юрий Соколов</dc:creator>
  <dc:description/>
  <dc:language>en-US</dc:language>
  <cp:lastModifiedBy>Evgeny</cp:lastModifiedBy>
  <dcterms:modified xsi:type="dcterms:W3CDTF">2014-11-12T06:40:07Z</dcterms:modified>
  <cp:revision>6</cp:revision>
  <dc:subject/>
  <dc:title>Оценка зависимости спроса на перевозки от уровня качества транспортного обслуживания грузовладельцев</dc:title>
</cp:coreProperties>
</file>